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42E-6C8A-402A-A805-DFB98155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F99-E0B6-49B9-9D9D-AB77B311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E08-66AA-44BD-9574-48455224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432-CDB7-4C00-B4AF-FF2425F6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17F-BF50-47D2-A4CD-4EAFC75E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55E-383A-41AB-9914-C54C5EFB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8D3-56CA-47DF-82FB-033F993A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2E3-8DA5-4F51-95F9-28A8987C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518-22AE-41C9-8EF8-3438FFA7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871-95C1-44F9-955D-8086AFE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9D0-E079-40F7-8406-4939B31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923-EB43-4FF3-A11F-B8EBA23C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E442-F7BB-4A58-9C7E-6D014C99F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603400">
            <a:off x="3740760" y="99360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Calibri"/>
                <a:ea typeface="Arial"/>
              </a:rPr>
              <a:t>To beh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Calibri"/>
                <a:ea typeface="Arial"/>
              </a:rPr>
              <a:t>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9"/>
          <p:cNvSpPr/>
          <p:nvPr/>
        </p:nvSpPr>
        <p:spPr>
          <a:xfrm>
            <a:off x="2870280" y="2438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0"/>
          <p:cNvSpPr/>
          <p:nvPr/>
        </p:nvSpPr>
        <p:spPr>
          <a:xfrm rot="2868000">
            <a:off x="2808360" y="342072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  <a:ea typeface="Arial"/>
              </a:rPr>
              <a:t>To 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  <a:ea typeface="Arial"/>
              </a:rPr>
              <a:t>successfu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>
            <a:off x="2666880" y="312408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3"/>
          <p:cNvSpPr/>
          <p:nvPr/>
        </p:nvSpPr>
        <p:spPr>
          <a:xfrm>
            <a:off x="3951360" y="4419720"/>
            <a:ext cx="113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4"/>
          <p:cNvSpPr/>
          <p:nvPr/>
        </p:nvSpPr>
        <p:spPr>
          <a:xfrm>
            <a:off x="7543800" y="350532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15"/>
          <p:cNvSpPr/>
          <p:nvPr/>
        </p:nvSpPr>
        <p:spPr>
          <a:xfrm flipV="1">
            <a:off x="7229520" y="2180880"/>
            <a:ext cx="136044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7"/>
          <p:cNvSpPr/>
          <p:nvPr/>
        </p:nvSpPr>
        <p:spPr>
          <a:xfrm flipV="1">
            <a:off x="6172200" y="2219040"/>
            <a:ext cx="826920" cy="59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9"/>
          <p:cNvSpPr/>
          <p:nvPr/>
        </p:nvSpPr>
        <p:spPr>
          <a:xfrm>
            <a:off x="6815160" y="4386240"/>
            <a:ext cx="83016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2"/>
          <p:cNvSpPr/>
          <p:nvPr/>
        </p:nvSpPr>
        <p:spPr>
          <a:xfrm rot="771000">
            <a:off x="4246200" y="25858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nie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>
            <a:off x="3817800" y="2867040"/>
            <a:ext cx="1132200" cy="20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5"/>
          <p:cNvSpPr/>
          <p:nvPr/>
        </p:nvSpPr>
        <p:spPr>
          <a:xfrm>
            <a:off x="5493240" y="28764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9646"/>
                </a:solidFill>
                <a:latin typeface="Calibri"/>
                <a:ea typeface="Arial"/>
              </a:rPr>
              <a:t>bab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6"/>
          <p:cNvSpPr/>
          <p:nvPr/>
        </p:nvSpPr>
        <p:spPr>
          <a:xfrm>
            <a:off x="7803360" y="28447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Do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7"/>
          <p:cNvSpPr/>
          <p:nvPr/>
        </p:nvSpPr>
        <p:spPr>
          <a:xfrm rot="2240400">
            <a:off x="2596320" y="2300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To t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jok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0"/>
          <p:cNvSpPr/>
          <p:nvPr/>
        </p:nvSpPr>
        <p:spPr>
          <a:xfrm>
            <a:off x="6386400" y="3324240"/>
            <a:ext cx="844560" cy="56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2"/>
          <p:cNvSpPr/>
          <p:nvPr/>
        </p:nvSpPr>
        <p:spPr>
          <a:xfrm rot="1984200">
            <a:off x="6176520" y="9378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  <a:ea typeface="Arial"/>
              </a:rPr>
              <a:t>To sm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4898880" y="390600"/>
            <a:ext cx="12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To jum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4"/>
          <p:cNvSpPr/>
          <p:nvPr/>
        </p:nvSpPr>
        <p:spPr>
          <a:xfrm rot="849000">
            <a:off x="6134040" y="264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  <a:ea typeface="Arial"/>
              </a:rPr>
              <a:t>To f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041800" y="464976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  <a:ea typeface="Arial"/>
              </a:rPr>
              <a:t>Great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  <a:ea typeface="Arial"/>
              </a:rPr>
              <a:t>grandfa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 rot="4419000">
            <a:off x="4505400" y="365652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g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5-Point Star 1"/>
          <p:cNvSpPr/>
          <p:nvPr/>
        </p:nvSpPr>
        <p:spPr>
          <a:xfrm>
            <a:off x="5691240" y="3414600"/>
            <a:ext cx="571320" cy="441360"/>
          </a:xfrm>
          <a:custGeom>
            <a:avLst/>
            <a:gdLst/>
            <a:ahLst/>
            <a:rect l="l" t="t" r="r" b="b"/>
            <a:pathLst>
              <a:path w="571500" h="441325">
                <a:moveTo>
                  <a:pt x="1" y="168571"/>
                </a:moveTo>
                <a:lnTo>
                  <a:pt x="218295" y="168572"/>
                </a:lnTo>
                <a:lnTo>
                  <a:pt x="285750" y="0"/>
                </a:lnTo>
                <a:lnTo>
                  <a:pt x="353205" y="168572"/>
                </a:lnTo>
                <a:lnTo>
                  <a:pt x="571499" y="168571"/>
                </a:lnTo>
                <a:lnTo>
                  <a:pt x="394895" y="272753"/>
                </a:lnTo>
                <a:lnTo>
                  <a:pt x="462353" y="441324"/>
                </a:lnTo>
                <a:lnTo>
                  <a:pt x="285750" y="337140"/>
                </a:lnTo>
                <a:lnTo>
                  <a:pt x="109147" y="441324"/>
                </a:lnTo>
                <a:lnTo>
                  <a:pt x="176605" y="272753"/>
                </a:lnTo>
                <a:lnTo>
                  <a:pt x="1" y="1685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5"/>
          <p:cNvSpPr/>
          <p:nvPr/>
        </p:nvSpPr>
        <p:spPr>
          <a:xfrm rot="1287600">
            <a:off x="6328080" y="324468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To have f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5"/>
          <p:cNvSpPr/>
          <p:nvPr/>
        </p:nvSpPr>
        <p:spPr>
          <a:xfrm rot="771000">
            <a:off x="6492960" y="38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tw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5"/>
          <p:cNvSpPr/>
          <p:nvPr/>
        </p:nvSpPr>
        <p:spPr>
          <a:xfrm rot="19648200">
            <a:off x="5726880" y="2209680"/>
            <a:ext cx="12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La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6"/>
          <p:cNvSpPr/>
          <p:nvPr/>
        </p:nvSpPr>
        <p:spPr>
          <a:xfrm rot="21190200">
            <a:off x="4955760" y="19936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  <a:ea typeface="Arial"/>
              </a:rPr>
              <a:t>To f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7"/>
          <p:cNvSpPr/>
          <p:nvPr/>
        </p:nvSpPr>
        <p:spPr>
          <a:xfrm rot="21190200">
            <a:off x="4199400" y="45784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Friend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7766280" y="22287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  <a:ea typeface="Arial"/>
              </a:rPr>
              <a:t>T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9"/>
          <p:cNvSpPr/>
          <p:nvPr/>
        </p:nvSpPr>
        <p:spPr>
          <a:xfrm rot="1135800">
            <a:off x="3734280" y="315432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grandchi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 rot="20742600">
            <a:off x="5646240" y="406368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girlfri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7493040" y="1501920"/>
            <a:ext cx="7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3996720" y="391320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o bui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6"/>
          <p:cNvSpPr/>
          <p:nvPr/>
        </p:nvSpPr>
        <p:spPr>
          <a:xfrm rot="1067400">
            <a:off x="7500240" y="3500280"/>
            <a:ext cx="11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  <a:ea typeface="Arial"/>
              </a:rPr>
              <a:t>Brothe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  <a:ea typeface="Arial"/>
              </a:rPr>
              <a:t>in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  <a:ea typeface="Arial"/>
              </a:rPr>
              <a:t>l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6"/>
          <p:cNvSpPr/>
          <p:nvPr/>
        </p:nvSpPr>
        <p:spPr>
          <a:xfrm rot="1067400">
            <a:off x="6986160" y="444780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Stepm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6"/>
          <p:cNvSpPr/>
          <p:nvPr/>
        </p:nvSpPr>
        <p:spPr>
          <a:xfrm rot="2699400">
            <a:off x="6519960" y="4681440"/>
            <a:ext cx="78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Stuff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anim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36360" y="5297400"/>
            <a:ext cx="37609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20:40:20Z</dcterms:created>
  <dc:creator>Heffernen, Heather</dc:creator>
  <dc:description/>
  <dc:language>en-US</dc:language>
  <cp:lastModifiedBy>Prine, Stephanie</cp:lastModifiedBy>
  <dcterms:modified xsi:type="dcterms:W3CDTF">2016-01-27T16:23:59Z</dcterms:modified>
  <cp:revision>23</cp:revision>
  <dc:subject/>
  <dc:title>PowerPoint Presentation</dc:title>
</cp:coreProperties>
</file>